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png" ContentType="image/png"/>
  <Override PartName="/ppt/media/image22.png" ContentType="image/png"/>
  <Override PartName="/ppt/media/image4.jpeg" ContentType="image/jpeg"/>
  <Override PartName="/ppt/media/image31.jpeg" ContentType="image/jpeg"/>
  <Override PartName="/ppt/media/image25.png" ContentType="image/png"/>
  <Override PartName="/ppt/media/image27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2.png" ContentType="image/png"/>
  <Override PartName="/ppt/media/image32.png" ContentType="image/pn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658-627F-4B47-BD8C-ECD8C8B6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31B-97EB-47F5-8F49-CE06369B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315-8851-4F12-9CF6-B5D005F2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1889-25F0-4C71-829F-7C3DF6DE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DB75B-1102-4452-AE58-EE433E42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FC2DE-6B61-423C-865A-97180252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D8DB9-6AD6-4041-844B-29D5FFB4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F91E3-0CD1-498A-B0EC-198D2944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E73F1-9110-41C7-A06F-9FB0108A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DA796-88C9-4CE8-A412-8832C0D3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89179-D67B-4924-AFD7-E450636C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A1E-AC65-4A61-B2A4-CCB528FD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BF120-FA24-40AA-9E74-79A386A5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5DAAC-8B3F-444D-990E-D883FBE8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DE9F3-43C2-469C-8E90-AA951D0E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81C69-48E7-4939-8182-2C2D9A73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9B0AB-4815-4220-A9FD-673BF58E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77ED3-C473-4A73-BE2B-98FD6CB1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B1204-CEFF-4E59-AFEB-0370B402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2BCB4-EA7C-4851-8B70-D1EC21F0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B2B76-389C-4D5F-A319-2C7C999E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7F788-1D49-4B58-97CA-7CA6289C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1545-DC17-4662-8192-26E44E29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7632D-374A-4274-82E7-A39BA29B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05519-622C-47F7-B8C6-CA6D00F0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892DB-5A8F-46D6-B339-EE6F22CA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E2B6B-012C-4FA0-9AFB-CCC6FB6E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A3991-5522-454A-A7E1-0077A916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CE7D7-F411-4618-BE0F-008E6FA9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B40A7-7701-4099-B609-EAF9456E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DED938-9D0A-43A5-9B2F-8DEF564B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ADA5E0-40F1-4E33-92B4-FA7B7748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FA5075-8BC3-42AD-8CE5-0A379699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17E-DA5B-4507-B4E1-A321BC0C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8E8FE4-6A69-4302-B06E-5CEF04F5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C47C48-1F38-458E-B581-7CBFAE20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35924B-ED42-4E75-8469-06E41CF8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4559C5-F6B2-4808-9549-F7FBF60E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4C5DEC-5540-44B1-A319-C29C7CD8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CA9102-5F2E-484C-9D43-8CF8BA7A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508C55-1CBA-4FF5-9F07-C9635BF6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00554F-597B-414C-9824-53474F48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5B9DC3-FBB5-455D-952C-CB7271B3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929-D184-470A-84B6-6C58A604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C12-0EDD-4E0B-A254-C8219411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70A7-CB1A-439F-8EC4-D837007F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8AE4-1BDF-46DE-AFCD-DE89C524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B93-2DDA-4AE1-BD83-43A1E58F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ED29-8553-4CCD-9FAC-B1C15C1952F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01B2-7AAF-44E5-9255-CDA7354CC4E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AC32-7966-4A7A-9011-0E207526820A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684A-45F9-4696-BBE1-B4E7B4B0E729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upload.wikimedia.org/wikipedia/commons/b/bd/Kingdoms_of_Israel_and_Judah_map_830.svg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uJ1Z7d7cMQ" TargetMode="External"/><Relationship Id="rId2" Type="http://schemas.openxmlformats.org/officeDocument/2006/relationships/hyperlink" Target="http://www.youtube.com/watch?v=9MHt70IaY1U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hyperlink" Target="http://upload.wikimedia.org/wikipedia/commons/7/73/Dreidel_001.jp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Jewish holy book, the Tanakh, was given to Moses by Go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d also gave Moses oral commentary, which is now written in the Talmu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pleting this is the Midrashim, which is a compendium of other writing and stories considered important by the Jew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llectively these components are called the Torah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http://www.concurringopinions.com/archives/torah.jpg"/>
          <p:cNvPicPr/>
          <p:nvPr/>
        </p:nvPicPr>
        <p:blipFill>
          <a:blip r:embed="rId2"/>
          <a:stretch/>
        </p:blipFill>
        <p:spPr>
          <a:xfrm>
            <a:off x="971640" y="5013360"/>
            <a:ext cx="2305080" cy="1681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http://www.judaicacatalog.com/torah-pointers/torah-pointer-images/torah-pointer-NY0022-L.jpg"/>
          <p:cNvPicPr/>
          <p:nvPr/>
        </p:nvPicPr>
        <p:blipFill>
          <a:blip r:embed="rId3"/>
          <a:stretch/>
        </p:blipFill>
        <p:spPr>
          <a:xfrm>
            <a:off x="3708360" y="5011560"/>
            <a:ext cx="172728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68360" y="1484280"/>
            <a:ext cx="7416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e menorah is one of the oldest Jewish symbols, and was the candelabra used in Solomon’s Tem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e most commonly known Jewish symbol is the Star of David. It emerged in the middle ages, and is far from the oldest or most significant Jewish symbo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e most recognizable piece of Jewish garb is the yarmulke, which ironically has very little religious significa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Seven-Branched Menorah"/>
          <p:cNvPicPr/>
          <p:nvPr/>
        </p:nvPicPr>
        <p:blipFill>
          <a:blip r:embed="rId2"/>
          <a:stretch/>
        </p:blipFill>
        <p:spPr>
          <a:xfrm>
            <a:off x="7812000" y="1700280"/>
            <a:ext cx="115272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Yarmulke as worn"/>
          <p:cNvPicPr/>
          <p:nvPr/>
        </p:nvPicPr>
        <p:blipFill>
          <a:blip r:embed="rId3"/>
          <a:stretch/>
        </p:blipFill>
        <p:spPr>
          <a:xfrm>
            <a:off x="7812000" y="4508640"/>
            <a:ext cx="1152720" cy="1495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Magen David"/>
          <p:cNvPicPr/>
          <p:nvPr/>
        </p:nvPicPr>
        <p:blipFill>
          <a:blip r:embed="rId4"/>
          <a:stretch/>
        </p:blipFill>
        <p:spPr>
          <a:xfrm>
            <a:off x="7740720" y="2924280"/>
            <a:ext cx="140328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e 613 mitzvah are the basic of our modern values, because they  were in turn adopted by Christianity and spread all over the worl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e concept of compound interest, devised in Mesopotamia, was instituted and practiced by the Jews. Compound interest is a driving force in our economy, and finances our banking system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589960" cy="1231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http://www.hossank.com/forum/images/babylontablet.jpg"/>
          <p:cNvPicPr/>
          <p:nvPr/>
        </p:nvPicPr>
        <p:blipFill>
          <a:blip r:embed="rId2"/>
          <a:srcRect l="0" t="0" r="4340" b="3709"/>
          <a:stretch/>
        </p:blipFill>
        <p:spPr>
          <a:xfrm>
            <a:off x="971640" y="4514760"/>
            <a:ext cx="1439640" cy="1963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http://www.sliceofscifi.com/wp-content/uploads/2007/11/norm-45c58bb72ebd6-raidersofthelostarkindianajones1981.jpg"/>
          <p:cNvPicPr/>
          <p:nvPr/>
        </p:nvPicPr>
        <p:blipFill>
          <a:blip r:embed="rId3"/>
          <a:stretch/>
        </p:blipFill>
        <p:spPr>
          <a:xfrm>
            <a:off x="3054240" y="4519440"/>
            <a:ext cx="2381400" cy="19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One of the greatest influences the Jews has was their institution of court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While not directly affecting art and science, Judaism is the foundation of Christianity and Islam, which have both had profound implications in Art and Scie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Jewish architecture is influential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in the sense that many mosque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and churches are built in th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style of synagogu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http://upload.wikimedia.org/wikipedia/commons/thumb/4/4f/Rembrandt_Harmensz._van_Rijn_035.jpg/250px-Rembrandt_Harmensz._van_Rijn_035.jpg"/>
          <p:cNvPicPr/>
          <p:nvPr/>
        </p:nvPicPr>
        <p:blipFill>
          <a:blip r:embed="rId2"/>
          <a:stretch/>
        </p:blipFill>
        <p:spPr>
          <a:xfrm>
            <a:off x="5651640" y="3789360"/>
            <a:ext cx="18730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File:ReginaJonas1.jpg"/>
          <p:cNvPicPr/>
          <p:nvPr/>
        </p:nvPicPr>
        <p:blipFill>
          <a:blip r:embed="rId1"/>
          <a:stretch/>
        </p:blipFill>
        <p:spPr>
          <a:xfrm>
            <a:off x="5003640" y="4221000"/>
            <a:ext cx="1729080" cy="22068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In Judaism, women are considered separate, but equal, to men. They may have different responsibilities, but are not seen as less importan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Women are said to have more intuition and understanding than me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Reform Jews are much less traditional, recently, female rabbi’s have been allowe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ere are approximately 13.3 million Jewish people in the worl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e US and Israel have the largest Jewish populations, with 85% of  the Jewish demographic between the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19" name="Picture 2" descr="File:Judaism percentage by country.png"/>
          <p:cNvPicPr/>
          <p:nvPr/>
        </p:nvPicPr>
        <p:blipFill>
          <a:blip r:embed="rId1"/>
          <a:stretch/>
        </p:blipFill>
        <p:spPr>
          <a:xfrm>
            <a:off x="0" y="0"/>
            <a:ext cx="9144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Judaism 101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. Web. 27 Oct. 2010. &lt;http://www.jewfaq.org/index.htm&gt;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100ce, By Around. "Judaism." </a:t>
            </a:r>
            <a:r>
              <a:rPr b="0" i="1" lang="en-US" sz="1600" spc="-1" strike="noStrike">
                <a:solidFill>
                  <a:srgbClr val="ffffff"/>
                </a:solidFill>
                <a:latin typeface="Constantia"/>
              </a:rPr>
              <a:t>ABC.net.au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. Web. 27 Oct. 2010. &lt;http://www.abc.net.au/religion/stories/s796551.htm&gt;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2080, By. "World Jewish Population | Latest Statistics." </a:t>
            </a:r>
            <a:r>
              <a:rPr b="0" i="1" lang="en-US" sz="1600" spc="-1" strike="noStrike">
                <a:solidFill>
                  <a:srgbClr val="ffffff"/>
                </a:solidFill>
                <a:latin typeface="Constantia"/>
              </a:rPr>
              <a:t>Judaism Online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. Web. 27 Oct. 2010. &lt;http://www.simpletoremember.com/vitals/world-jewish-population.htm&gt;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"History of Judaism - ReligionFacts." </a:t>
            </a:r>
            <a:r>
              <a:rPr b="0" i="1" lang="en-US" sz="1600" spc="-1" strike="noStrike">
                <a:solidFill>
                  <a:srgbClr val="ffffff"/>
                </a:solidFill>
                <a:latin typeface="Constantia"/>
              </a:rPr>
              <a:t>Religion, World Religions, Comparative Religion - Just the Facts on the World's Religions.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 Web. 27 Oct. 2010. &lt;http://www.religionfacts.com/judaism/history.htm&gt;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"Messiah." </a:t>
            </a:r>
            <a:r>
              <a:rPr b="0" i="1" lang="en-US" sz="1600" spc="-1" strike="noStrike">
                <a:solidFill>
                  <a:srgbClr val="ffffff"/>
                </a:solidFill>
                <a:latin typeface="Constantia"/>
              </a:rPr>
              <a:t>Wikipedia, the Free Encyclopedia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. Web. 27 Oct. 2010. &lt;http://en.wikipedia.org/wiki/Messiah#Judaism&gt;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Ruggiero, Adriane. </a:t>
            </a:r>
            <a:r>
              <a:rPr b="0" i="1" lang="en-US" sz="1600" spc="-1" strike="noStrike">
                <a:solidFill>
                  <a:srgbClr val="ffffff"/>
                </a:solidFill>
                <a:latin typeface="Constantia"/>
              </a:rPr>
              <a:t>Judaism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. Farmington Hills, MI: Greenhaven, 2006. Print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"The Written Law (The Torah)." </a:t>
            </a:r>
            <a:r>
              <a:rPr b="0" i="1" lang="en-US" sz="1600" spc="-1" strike="noStrike">
                <a:solidFill>
                  <a:srgbClr val="ffffff"/>
                </a:solidFill>
                <a:latin typeface="Constantia"/>
              </a:rPr>
              <a:t>Jewish Virtual Library - Homepage</a:t>
            </a: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. Web. 27 Oct. 2010. &lt;http://www.jewishvirtuallibrary.org/jsource/Judaism/The_Written_Law.html&gt;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4" name="Picture 2" descr="http://www.bibletrack.com/notes/image/Gen_15_territor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77" name="Picture 2" descr="File:Kingdoms of Israel and Judah map 830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5600" y="0"/>
            <a:ext cx="574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0" name="Picture 2" descr="Genealogy chart of the Terah family"/>
          <p:cNvPicPr/>
          <p:nvPr/>
        </p:nvPicPr>
        <p:blipFill>
          <a:blip r:embed="rId2"/>
          <a:stretch/>
        </p:blipFill>
        <p:spPr>
          <a:xfrm>
            <a:off x="0" y="0"/>
            <a:ext cx="935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2000-1500 BCE: Abraham and the Patriarch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1050-920 BCE Kings Saul, David and Solom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920-597 BCE Kingdoms of Israel and Juda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605 BCE Babylon conquers Egypt, now rules Judah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586 BCE Destruction of the First Temp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64 CE Jerusalem captured by Roman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70 CE Destruction of the Second Temp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135-1204 CE Maimonid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://www.timelineindex.com/imagesThumb/255_2765.png"/>
          <p:cNvPicPr/>
          <p:nvPr/>
        </p:nvPicPr>
        <p:blipFill>
          <a:blip r:embed="rId2"/>
          <a:stretch/>
        </p:blipFill>
        <p:spPr>
          <a:xfrm>
            <a:off x="6948360" y="3716280"/>
            <a:ext cx="1650960" cy="1650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Temple.jpg (165698 bytes)"/>
          <p:cNvPicPr/>
          <p:nvPr/>
        </p:nvPicPr>
        <p:blipFill>
          <a:blip r:embed="rId3"/>
          <a:stretch/>
        </p:blipFill>
        <p:spPr>
          <a:xfrm>
            <a:off x="4572000" y="4869000"/>
            <a:ext cx="219060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e principles of Judaism are called the Halahkah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is is a list of 613 commandments described by God in the Torah.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Due to circumstance and change in political structure, only 271 mitzvah apply to modern lif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Judaism discourages proselytizi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Also, Judaism believes that you do not have to be Jewish in order to go to heave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8e58b6"/>
                </a:solidFill>
                <a:uFillTx/>
                <a:latin typeface="Constantia"/>
                <a:hlinkClick r:id="rId1"/>
              </a:rPr>
              <a:t>http://www.youtube.com/watch?v=8uJ1Z7d7cMQ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http://www.youtube.com/watch?v=9MHt70IaY1U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Title 2" descr=""/>
          <p:cNvPicPr/>
          <p:nvPr/>
        </p:nvPicPr>
        <p:blipFill>
          <a:blip r:embed="rId3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Rosh Hashanah: Jewish Near Ye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Yom Kippur: Day of Atone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Passover: A seven day holiday to remember the Exodus, usually occurs near Easte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Chanukkah: The festival of lights, an eight day holiday to celebrate the rededication of the Second temple in Jerusalem. Usually occurs before Christma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://zedomax.com/blog/wp-content/uploads/2008/12/menorah-16020m.jpg"/>
          <p:cNvPicPr/>
          <p:nvPr/>
        </p:nvPicPr>
        <p:blipFill>
          <a:blip r:embed="rId2"/>
          <a:stretch/>
        </p:blipFill>
        <p:spPr>
          <a:xfrm>
            <a:off x="900000" y="4581360"/>
            <a:ext cx="1843200" cy="1843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File:Dreidel 00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43280" y="4581360"/>
            <a:ext cx="1442880" cy="1854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http://upload.wikimedia.org/wikipedia/commons/thumb/e/e0/Chanukah_gelt.jpg/350px-Chanukah_gelt.jpg"/>
          <p:cNvPicPr/>
          <p:nvPr/>
        </p:nvPicPr>
        <p:blipFill>
          <a:blip r:embed="rId5"/>
          <a:stretch/>
        </p:blipFill>
        <p:spPr>
          <a:xfrm>
            <a:off x="5364000" y="4941720"/>
            <a:ext cx="1801800" cy="11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braham: Abraham is considered the founder of the Jewish faith. God spoke to Abraham and told him that if he left his home for Canaan, God would give him a great nation for likeminded peo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ses: Moses led the Exodus from Egypt, and was given the Ten Commandments by God. He is the most important prophet in Jewish traditi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Maimonides:  Maimonides was a Jewish Scholar in Moorish Spain. He is renown for his Thirteen Principles of Faith, which are similar to Christianity’s Ten Commandment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ewish worship is usually lead by a rabbi, who roughly corresponds to a minister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ynagogues are usually administered over by a council of elders, similar to deacons is Christianit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Constantia"/>
              </a:rPr>
              <a:t>Though the synagogue is seen as a place of worship, religious life is seen as centered around the hom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http://images.travelpod.com/users/stevelegassick/45.1210348800.new-synagogue.jpg"/>
          <p:cNvPicPr/>
          <p:nvPr/>
        </p:nvPicPr>
        <p:blipFill>
          <a:blip r:embed="rId2"/>
          <a:stretch/>
        </p:blipFill>
        <p:spPr>
          <a:xfrm>
            <a:off x="900000" y="4292640"/>
            <a:ext cx="2843280" cy="2131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Right and wrong ways to wear a tallit"/>
          <p:cNvPicPr/>
          <p:nvPr/>
        </p:nvPicPr>
        <p:blipFill>
          <a:blip r:embed="rId3"/>
          <a:stretch/>
        </p:blipFill>
        <p:spPr>
          <a:xfrm>
            <a:off x="4716360" y="4295880"/>
            <a:ext cx="30243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8:58:31Z</dcterms:created>
  <dc:creator>Profile</dc:creator>
  <dc:description/>
  <dc:language>en-US</dc:language>
  <cp:lastModifiedBy>Profile</cp:lastModifiedBy>
  <dcterms:modified xsi:type="dcterms:W3CDTF">2010-10-29T06:05:29Z</dcterms:modified>
  <cp:revision>9</cp:revision>
  <dc:subject/>
  <dc:title>Judaism</dc:title>
</cp:coreProperties>
</file>